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93A-90A9-49B5-875D-71550317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7C0-8FFD-4B16-AEB8-E01F9400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FEE-C087-4B43-A0EC-79332FAD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AFE-C3C9-43CA-B463-D4056FE6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B7B-5716-49DF-97AA-D9A73DE0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C4C-4F79-437C-92AD-1F348D15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3F2-11A6-41B9-B9DB-25585A22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FD2-4D74-4A53-86A2-C414474B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56A-2310-4992-A0C7-63DC1971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DD2-CD2E-4B1F-AB50-7313025E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E2D-23A0-448C-9DC4-E249FA18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E6B-894B-43BF-B52A-79C46EC1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18BC-BF1A-40BA-96AB-7D1A2EFDD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ilent Consona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, kn, gn, and 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280" y="2666520"/>
            <a:ext cx="8839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w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152280" y="3124080"/>
            <a:ext cx="861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1600200" y="23623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419720" y="2362320"/>
            <a:ext cx="0" cy="220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7010280" y="23623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8:17:40Z</dcterms:created>
  <dc:creator> </dc:creator>
  <dc:description/>
  <dc:language>en-US</dc:language>
  <cp:lastModifiedBy>teacher</cp:lastModifiedBy>
  <dcterms:modified xsi:type="dcterms:W3CDTF">2011-02-23T18:11:46Z</dcterms:modified>
  <cp:revision>3</cp:revision>
  <dc:subject/>
  <dc:title>Review Silent Consonants wr, kn, gn, and mb</dc:title>
</cp:coreProperties>
</file>